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88DD5-153B-4D6D-A0B6-28E148C55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96889-33C1-4FF0-AC67-875146EC9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C9640-19F1-4D37-842D-D9F696301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B3A6B-CB5E-4001-98A6-B1E677513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EEC057-FDBD-4D25-95E2-BAC2D07DAA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C529F-A051-4E35-B799-8358C2C583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60403-3765-4EDB-AD52-AAA1F2733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0B10F-19A5-4A02-A885-4D0EAE1B9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54425-11D9-4FDD-9C90-4EA01E99F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F89DE9-33F4-403A-9C94-3E04427C6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1823BC-06E5-4AF6-977D-574216355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D0363-C730-49CA-86DA-B861494FC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1971D-00AF-461D-A95D-B10FD7066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F22B2-F230-4D69-8C76-D33DCF725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F6A10-FD57-410D-9E64-E5A3D3C7E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38E72-6623-48FB-B115-810F02CED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4C591-3CEB-4674-A480-79DC06082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AB181-C511-45B0-8852-635C0B46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9CAB6-8BBB-4BDE-B2D2-39424BC0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8D6A7-B178-424D-B35A-31962EE6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FBD1-B91F-4C61-B39C-CC53575E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C6FD5-CCCE-4345-9CA9-A139371B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250C-820F-4AF5-BF89-1B53C2FC8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55F10-A5B4-4EB6-BC59-31FDA7A2D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77AF2-25CC-46C0-B867-3AC9422B723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73815-45FA-4CA1-AF09-FB406EA82F8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reating Memorie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quelm V. Abcede</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x Michael Guirita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2362320" y="304920"/>
            <a:ext cx="4408200" cy="5867280"/>
          </a:xfrm>
          <a:prstGeom prst="rect">
            <a:avLst/>
          </a:prstGeom>
          <a:ln w="0">
            <a:noFill/>
          </a:ln>
        </p:spPr>
      </p:pic>
      <p:sp>
        <p:nvSpPr>
          <p:cNvPr id="88" name=""/>
          <p:cNvSpPr/>
          <p:nvPr/>
        </p:nvSpPr>
        <p:spPr>
          <a:xfrm>
            <a:off x="1295280" y="6172200"/>
            <a:ext cx="7696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2800" spc="-1" strike="noStrike">
                <a:solidFill>
                  <a:srgbClr val="cc0000"/>
                </a:solidFill>
                <a:latin typeface="Curlz MT"/>
              </a:rPr>
              <a:t>Happiness is more important than anything e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Just what about happiness is..</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 don’t practically have to search for happiness. It’s in the environment we live in. All we have to do is to look around us. There are things that are essential and would make us happ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2:21:28Z</dcterms:created>
  <dc:creator>nave</dc:creator>
  <dc:description/>
  <dc:language>en-US</dc:language>
  <cp:lastModifiedBy>nave1386</cp:lastModifiedBy>
  <dcterms:modified xsi:type="dcterms:W3CDTF">2010-09-21T03:58:12Z</dcterms:modified>
  <cp:revision>2</cp:revision>
  <dc:subject/>
  <dc:title>Slide 1</dc:title>
</cp:coreProperties>
</file>